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8E3D9-2685-4834-8B50-17E63FB0DA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0FDE6-DCFD-41E4-9DD3-DCC0296D2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DDB54-8CEE-4B9E-AF9F-1CD51BB1D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6C4D9-6E2D-4734-B9D3-330C068C9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65F718-EB4E-4887-BF3E-DB66D9954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863D0-3563-4F2F-927A-DF48CAC3C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F7B-96BA-4219-B7E9-0C28EF34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865-FAAB-4B22-ADA6-ACE5C7E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FCF-F40F-460C-B45A-E4AD8868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B596-8175-477F-98BD-D28ACEEB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BF84-5794-4040-A909-A93944A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74B-1091-424C-98A8-F072C52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6CC-7888-42C4-8638-2D8213B5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6621-18DD-4AFF-A4BA-0952140F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A335-358A-4B73-95D1-1F9B6B9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FCF-87FC-4623-8BCF-DFC37ACE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3CF-7416-406A-A65A-6756DD1F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74AD-0310-43FB-A09F-9434A26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3381E-DE6E-42D0-9EBF-4B61948E0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11687-EF35-42FE-9877-512BD65FE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9:  Scenarios and Requirements/Complex Interactions/ Activity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oritization (MoSCoW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st have (without this, it’s usel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uld have (would be a clear value-added requirement but will work without 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uld have (might be nice but not essenti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nt but Won’t have (can wait until future iter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oritization is important – you can’t often do it all, and it’s often a bad idea even if you cou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final project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conceptual scenarios from which more specific concrete and use case stories can be derived (no need to do that here thoug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ries should be of technology issu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they exist no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don’t tell stories of redesigned technology (in other words, it’s not a marketing gimmic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 per person in group minimum - should be a broad enough collection of stories to envelop complexity of potential uses and fail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 and to the point - no fil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ank order requirements (either within scenarios or collectively, your cho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s should be what your redesign aims to sol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lexity and Inte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echnologies may get more complex to use when more people are involv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ing for lots of simultaneous users can be daunting (e.g., scalability in web desig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ask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lowcharting interaction patterns - order of actions, decisions ma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fficulties in representing multiple actors, especially when actors act at different times (conflict in swimlanes, delays in proc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tributed 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ople interact with other people using other tools to realiz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cation and coordination becomes essential - interaction challeng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/External/Sh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nal representations - individual mental models of re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ternal representations - anything outside individual that guides activity (e.g., layout, notes, diagram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ared representations - individuals come together over external representations to create shared understanding (or confusion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ns and Situated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eats user interaction as a set of defined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lans in context - often contingent and less cut and dry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mans don’t crash when plans fail - we adapt, create new plans on the f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Xerox technician example – formalized plans complimented by dialogue, sharing of s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nowledge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and sharing shared re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it and explicit 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iral” of knowledge – from individual to organization, tacit to explicit (Nonaka and Takeuchi, 199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I and 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cialization: engagement with others, often driven and shaped by tacit knowle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rnalization: conversion of tacit knowledge to explicit knowle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bination: analysis and reformatting of explicit knowledge into new knowled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nalization:  reintegration into tacit knowledge (learning by do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a: a diffuse concept regarding shared knowledge ecology/environme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ivity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resents complexity of interaction among subjects, objects, artefacts and cultu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 theory, can be hard to use in practice - but also quite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s on Final Ass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enarios/Requirements next week – starting with notes on that right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feedback now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ing existing tech 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agic solutions, p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2"/>
          <p:cNvSpPr/>
          <p:nvPr/>
        </p:nvSpPr>
        <p:spPr>
          <a:xfrm>
            <a:off x="1371600" y="1600200"/>
            <a:ext cx="6629400" cy="4419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3"/>
          <p:cNvSpPr/>
          <p:nvPr/>
        </p:nvSpPr>
        <p:spPr>
          <a:xfrm>
            <a:off x="3048120" y="380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3048120" y="3809880"/>
            <a:ext cx="17524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5"/>
          <p:cNvSpPr/>
          <p:nvPr/>
        </p:nvSpPr>
        <p:spPr>
          <a:xfrm flipV="1">
            <a:off x="4876920" y="3809520"/>
            <a:ext cx="14475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264560" y="10666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ef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988200" y="33926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901560" y="3392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84720" y="60199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4194720" y="6095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7770600" y="603576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sion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bo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des in Activity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ject -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 - goal,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tefact - tools,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ty - others affected by th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on of Labour – the role of power relations in accomplishing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xis – norms/mores governing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tradi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imary - conflict at node (e.g., two subjects having different no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ary - conflict between nodes (e.g., power relations interfering with successful formation of obj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rtiary - conflicts when activities are redesigned (e.g., change in model conflicts with old expec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uarternary - conflicts between simultaneous activities (e.g., one activity diagram contradicts ano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xample: C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llaborative virtual environments - VR which embodies user in virtual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fords interaction with other embodied users in real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cond Lif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VEs in Con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esting way to bridge distance g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ime gaps a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rientation issues in virtual world - people talking to walls, etc. (and why it doesn’t mat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fusing spaces and avatars - fantastic displays but for what purpo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ivity Theor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bjects - conference attend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bject - engage in collaboration, ta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tefacts - virtual conference environment, posters, websit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munity - attendees, lu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vision of Labour - who is/is not allowed to talk at any given time, access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xis - expectations of conference environment, turn-tak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15:  Prototyping (no lab assignment – just time for working on proj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2:  Test Review/Presentations of Final Redesigns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9:  Test (no la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rrative that is accessible and useful to explain problems to stakeho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rrative that outlines complexity to designers in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narrative that is shaped both by designers and users - and increasingly shaped by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for understanding of many effects at many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s you to set the tone of redesign and sell it effectively to bosses, us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velops external factors/constr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lls the problem – makes your solution the obvious one, but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enarios are not about your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r S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ecdotes, observation, interview transcripts can directly yield information for sce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uld be told as close to user’s direct experience as possible - in their own words expressing their ow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ft just at this level - just a collection of interesting stories, no attempt at creating common the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eptual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dentification of common themes and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s conceptual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d for generating ideas for design alternatives, specifying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e level of abstraction from user stories - but does not yet address how technologies resolve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ret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s requirements from conceptual scenarios more concre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erates on physical/prototypical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rts involving technologies and interaction patterns at a general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y be many concrete scenarios from one conceptual scen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malized interaction patter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design questions resolv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be modeled using formal procedures and language (e.g., HTA, U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 software, this is “pseudocode” - in hardware, the first functional it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om user stories and conceptual scenarios, build a list of what the technology should (and should not) be able to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nctional (e..g., task oriented - what it does) or non-functional (e.g., aesthetic, legal, cultural, ease of use iss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6:39:33Z</dcterms:created>
  <dc:creator>Sheridan College</dc:creator>
  <dc:description/>
  <dc:language>en-US</dc:language>
  <cp:lastModifiedBy>Sheridan College</cp:lastModifiedBy>
  <dcterms:modified xsi:type="dcterms:W3CDTF">2010-03-08T17:03:13Z</dcterms:modified>
  <cp:revision>3</cp:revision>
  <dc:subject/>
  <dc:title>Slide 1</dc:title>
</cp:coreProperties>
</file>